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DBB3-50D5-48A1-A35B-352CBCDC617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8D70-E366-49D6-800B-EFD342A4B1D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183-EE3C-4BF4-82E8-276F97F6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2438-025F-4872-A1DE-63621945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D6D2-1616-4279-9008-14A369E5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C0B-D5FB-478E-88D2-60E82FBE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AAC-B750-4BCD-8F25-48F8F77D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F793-FFF8-4388-8486-F1B01329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0BD6-6A92-44A4-908D-9527AA65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8E6B-34A2-4E54-9E35-423DDF15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4FA2-D9BB-40F2-A45E-46EACE56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0D9-2691-43A0-8A0A-030E28CD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0B71-A42B-4E5D-9530-A83DB481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EA2-4704-4022-ACED-861489CE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EDA7-FB7B-462C-B4FD-3672166E44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fg\Dropbox\hotel stars logo.jpg"/>
          <p:cNvPicPr/>
          <p:nvPr/>
        </p:nvPicPr>
        <p:blipFill>
          <a:blip r:embed="rId1"/>
          <a:stretch/>
        </p:blipFill>
        <p:spPr>
          <a:xfrm>
            <a:off x="1187280" y="907920"/>
            <a:ext cx="63565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Lokalizacj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Opisy lokaliz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Lokalizac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grze Hotel Stars można rozpocząć świadczenie usługi w trzech różnych rejonach miast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ażdy z rejonów ma nieco inną charakterystykę, którą powinno się uwzględnić w trakcie planowania budże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Diagram 3" descr=""/>
          <p:cNvPicPr/>
          <p:nvPr/>
        </p:nvPicPr>
        <p:blipFill>
          <a:blip r:embed="rId1"/>
          <a:stretch/>
        </p:blipFill>
        <p:spPr>
          <a:xfrm>
            <a:off x="0" y="3127320"/>
            <a:ext cx="91440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Centru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ytuł 1"/>
          <p:cNvSpPr/>
          <p:nvPr/>
        </p:nvSpPr>
        <p:spPr>
          <a:xfrm>
            <a:off x="609480" y="19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4"/>
          <p:cNvSpPr/>
          <p:nvPr/>
        </p:nvSpPr>
        <p:spPr>
          <a:xfrm>
            <a:off x="324000" y="1484280"/>
            <a:ext cx="741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Najbardziej prestiżowy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rejon do prowadzenia hotel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W centrum miasta znajdują się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najważniejsze instytucje biznesow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 oraz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atrakcje turystyczn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Łatwo znaleźć tu klientów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, którzy są gotowi wynająć pokój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Należy jednak pamiętać, że w centrum poniesiemy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najwyższe koszty związane z inwestycjami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Obraz 3" descr=""/>
          <p:cNvPicPr/>
          <p:nvPr/>
        </p:nvPicPr>
        <p:blipFill>
          <a:blip r:embed="rId1"/>
          <a:stretch/>
        </p:blipFill>
        <p:spPr>
          <a:xfrm>
            <a:off x="6300720" y="4524480"/>
            <a:ext cx="36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Śródmieśc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26560" y="1844640"/>
            <a:ext cx="792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Hotel warto umieścić w śródmieściu, jeżeli planujecie przyciągnąć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średniozamożnych klientów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i będziecie w stanie opłacić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rachunki średniej wielkośc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az 3" descr=""/>
          <p:cNvPicPr/>
          <p:nvPr/>
        </p:nvPicPr>
        <p:blipFill>
          <a:blip r:embed="rId1"/>
          <a:stretch/>
        </p:blipFill>
        <p:spPr>
          <a:xfrm>
            <a:off x="4859280" y="4221000"/>
            <a:ext cx="381636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raz 3" descr=""/>
          <p:cNvPicPr/>
          <p:nvPr/>
        </p:nvPicPr>
        <p:blipFill>
          <a:blip r:embed="rId1"/>
          <a:stretch/>
        </p:blipFill>
        <p:spPr>
          <a:xfrm>
            <a:off x="6264360" y="4941720"/>
            <a:ext cx="2879640" cy="1440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Przedmieści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11280" y="1600200"/>
            <a:ext cx="792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oclegu w tym miejscu szukają ludzie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szczędni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którym nie zależy na najwyższym komforcie i jakośc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letą tego rejonu jest fakt, że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oszty utrzymani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Waszego hotelu będą zdecydowanie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iższ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niż w innych dzielnica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pyt na pokój hotelowy na przedmieściach może być niższy niż w innych rejonach miasta – dojeżdżanie do ważnych punktów turystycznych może być  dla klientów dodatkowym problem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Podsumowan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67800" y="1484280"/>
            <a:ext cx="813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Miejsce,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którym przedsiębiorca podejmuje się świadczenia usług (lub produkcji dóbr) jest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bardzo istotnym czynnikiem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wpływającym na całą działalność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obrze przemyślcie swoją strategię zanim podejmiecie ostateczny wybó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ę decyzję mogą ułatwić informacje zawarte w pierwszym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badaniu marketingowym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oferowanym w grz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884160" y="3716280"/>
            <a:ext cx="7850160" cy="1008000"/>
          </a:xfrm>
          <a:prstGeom prst="rect">
            <a:avLst/>
          </a:prstGeom>
          <a:solidFill>
            <a:srgbClr val="d99694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652320" y="1916280"/>
            <a:ext cx="8282160" cy="1368360"/>
          </a:xfrm>
          <a:prstGeom prst="rect">
            <a:avLst/>
          </a:prstGeom>
          <a:solidFill>
            <a:srgbClr val="4f81bd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5:53:37Z</dcterms:created>
  <dc:creator>sfg</dc:creator>
  <dc:description/>
  <dc:language>en-US</dc:language>
  <cp:lastModifiedBy>User</cp:lastModifiedBy>
  <dcterms:modified xsi:type="dcterms:W3CDTF">2014-04-12T20:56:28Z</dcterms:modified>
  <cp:revision>31</cp:revision>
  <dc:subject/>
  <dc:title>Slajd 1</dc:title>
</cp:coreProperties>
</file>